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5F2-06B7-4949-B01D-78F2831D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DD5-B67A-49C1-8C49-29D37E7D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69F-FDB7-455E-B963-3586064C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9FD-2433-49DC-9E79-DDC3C8D3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ABD-DD79-4DDE-ACC9-1E4B00E0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425-5033-4DAD-BC52-B5AE8B8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DA1-57E6-420B-A1B4-C1E5F8D2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68B-81FA-4D12-B6C5-FD71E9D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481-5D63-4725-9911-250AA81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0BB-1E5E-44E4-ABC3-1829F11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EC9-36B4-4DE2-A95F-BB1F448D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D58-CDF1-432C-B2EA-77264AD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180-7780-448D-A850-87DAAA470F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sm1@imtf4.ees.hokudai.ac.jp" TargetMode="External"/><Relationship Id="rId2" Type="http://schemas.openxmlformats.org/officeDocument/2006/relationships/hyperlink" Target="mailto:rsm1@imtf4.ees.hokudai.ac.j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rsm1@imtf4.ees.hokudai.ac.jp" TargetMode="External"/><Relationship Id="rId2" Type="http://schemas.openxmlformats.org/officeDocument/2006/relationships/hyperlink" Target="mailto:rsm1@imtf4.ees.hokudai.ac.jp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RSM on imtf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 of 2010/8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ei Yoshimura (AO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R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m runs in rsm_runs direc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cript (rsm) runs a 48 hours simulation from 1990/3/9 0Z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e calculation status b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3"/>
          <p:cNvSpPr/>
          <p:nvPr/>
        </p:nvSpPr>
        <p:spPr>
          <a:xfrm>
            <a:off x="900000" y="2154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6"/>
          <p:cNvSpPr/>
          <p:nvPr/>
        </p:nvSpPr>
        <p:spPr>
          <a:xfrm>
            <a:off x="900000" y="4211640"/>
            <a:ext cx="7272360" cy="337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t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7"/>
          <p:cNvSpPr/>
          <p:nvPr/>
        </p:nvSpPr>
        <p:spPr>
          <a:xfrm>
            <a:off x="900000" y="5013360"/>
            <a:ext cx="7272360" cy="337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tail –f r_000/out-rfcst.ft4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8"/>
          <p:cNvSpPr/>
          <p:nvPr/>
        </p:nvSpPr>
        <p:spPr>
          <a:xfrm>
            <a:off x="900000" y="5589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ion takes 10 minutes or 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ize the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use GrA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r_pgb.ctl as follows (shown by re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900000" y="2154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_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~/grib2ctl.pl r_pgb.ft00 &gt; r_pgb.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900000" y="3421080"/>
            <a:ext cx="7272360" cy="2040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set ^r_pgb.ft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%f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 ^r_pgb.ft00.id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tions templ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f 9.999E+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def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inear 00Z09mar1990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h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def 12 lev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5"/>
          <p:cNvSpPr/>
          <p:nvPr/>
        </p:nvSpPr>
        <p:spPr>
          <a:xfrm>
            <a:off x="900000" y="5899320"/>
            <a:ext cx="7272360" cy="337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gribmap –i r_pgb.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6"/>
          <p:cNvSpPr/>
          <p:nvPr/>
        </p:nvSpPr>
        <p:spPr>
          <a:xfrm>
            <a:off x="927000" y="558972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execute “gribmap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ize the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unch grads and open r_pgb.ct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you can see an animation of 500hPa level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escription is available 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iges.org/grad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meteora.ucsd.edu/~kyoshimura/?IT%20memo%2FGrADS%20m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3"/>
          <p:cNvSpPr/>
          <p:nvPr/>
        </p:nvSpPr>
        <p:spPr>
          <a:xfrm>
            <a:off x="900000" y="2154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gra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open r_pgb.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4"/>
          <p:cNvSpPr/>
          <p:nvPr/>
        </p:nvSpPr>
        <p:spPr>
          <a:xfrm>
            <a:off x="900000" y="371628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set z 6     # set the height at 500hP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set t 1 17  # set the time from 1990/3/9 0Z to 3/11 0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d hgtprs    # visualize the he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the model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ay choose domain from def/def_r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rsm/configure-model and compile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3"/>
          <p:cNvSpPr/>
          <p:nvPr/>
        </p:nvSpPr>
        <p:spPr>
          <a:xfrm>
            <a:off x="900000" y="2154240"/>
            <a:ext cx="727236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kei@shui def]$ ls -1 def_rs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V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024x651_g62k28_usa_10km_me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024x669_g62k28_usa_10km_me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08x109_g62k28_california_5km_me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4"/>
          <p:cNvSpPr/>
          <p:nvPr/>
        </p:nvSpPr>
        <p:spPr>
          <a:xfrm>
            <a:off x="900000" y="5027760"/>
            <a:ext cx="727236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it MODEL_DEFINE in 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 clean ; mak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../rsm_ru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onfigure-scr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simulation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sim script in rsm_runs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to next sl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900000" y="2154240"/>
            <a:ext cx="727236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scr 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it year, date, time, as you lik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Cygwin in your lap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lick “cygwi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“startx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ny terminal, login to imtf4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“grads” to check X-window 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755640" y="3500280"/>
            <a:ext cx="7272360" cy="1051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ssh –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rsm1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urier New"/>
                <a:hlinkClick r:id="rId2"/>
              </a:rPr>
              <a:t>@imtf4.ees.hokudai.ac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sm1~rsm6 are available depends on traff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: rsm10sappo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4"/>
          <p:cNvSpPr/>
          <p:nvPr/>
        </p:nvSpPr>
        <p:spPr>
          <a:xfrm>
            <a:off x="826920" y="6022800"/>
            <a:ext cx="734544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@” symbol is located right-hand side of your keyboar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next to “P”)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gwin’s window siz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hange your terminal window size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and hold the up-right corner of the term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drag your mouse outside of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g back into the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 termin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your directory on your home directory, such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kdir /work1/RSM/[your na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 /work1/RSM/[your na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-in imtf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3"/>
          <p:cNvSpPr/>
          <p:nvPr/>
        </p:nvSpPr>
        <p:spPr>
          <a:xfrm>
            <a:off x="900000" y="2205000"/>
            <a:ext cx="7272360" cy="613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sh –Y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rsm1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2"/>
              </a:rPr>
              <a:t>@imtf4.ees.hokudai.ac.j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~rsm6 are available with password rsm10sappo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cal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/work1/RSM/[your_name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rectory instead of /home directory. Then delete your directory in /home. (please do not delete other’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or number of 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 may use your computer in your institute instead of imtf4. In this case, You ne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ither intel or pgi fort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pich program if you want to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VSROOT=:pserver:anoncvs@rokka.ucsd.edu:/rokka1/kana/cvs-server-root/cpscv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see http://g-rsm.wikispaces.com/Instal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Troublesh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ation err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vs co” doesn’t work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t CVSROOT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ilation stops!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k assistant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ion err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ish too early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eck files in output directory (r_000). You should have sig.ft4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flown (lots of “*” in out_rfcst files)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en DELTAT_REG in rsm/rsim files and rer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process err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ib2ctl.pl does not work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py /home/rsm1/grib2ctl.pl to your working directory and try a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mpile without downlo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have downloaded the necessary files, you don’t need to do “./install” proc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have problem in “libs”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d li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-li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(or make clean, mak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have problem in “rsm”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d r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-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(or make clean, mak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want to create other executable scri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d rsm_ru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-scr XXXXX [rsim, rsm, etc.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install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CVSROOT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your inform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VS: Concurrent Versions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VS in Hokudai is mirrored from Scripps, Califor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3"/>
          <p:cNvSpPr/>
          <p:nvPr/>
        </p:nvSpPr>
        <p:spPr>
          <a:xfrm>
            <a:off x="900000" y="213372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export CVSROOT=/work1/RSM/cpscv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etenv CVSROOT /work1/RSM/cpscvs  !! without “=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 through C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900000" y="1803240"/>
            <a:ext cx="7272360" cy="4231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/work1/RSM/[your name]  # go to working direc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kdir test ; cd test # creating working direc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vs co INSTALL       # needs to be all cap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inst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oose follow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el: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chitecture: mp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itution: ecp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chine: linu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ickname: imtf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iler: int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itional options: 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main: 37 (81x87, Japan, 30km) -&gt; you can choose any. but smaller domain is recomme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: 00:30 (just press ent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of pes: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ript: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6"/>
          <p:cNvSpPr/>
          <p:nvPr/>
        </p:nvSpPr>
        <p:spPr>
          <a:xfrm>
            <a:off x="1063800" y="622944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compilation starts. This process may take 10-15 minut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2:17:59Z</dcterms:created>
  <dc:creator>kei</dc:creator>
  <dc:description/>
  <dc:language>en-US</dc:language>
  <cp:lastModifiedBy>kei</cp:lastModifiedBy>
  <dcterms:modified xsi:type="dcterms:W3CDTF">2010-08-14T15:23:07Z</dcterms:modified>
  <cp:revision>29</cp:revision>
  <dc:subject/>
  <dc:title>How to run RSM</dc:title>
</cp:coreProperties>
</file>